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CE2E-8CCB-4E78-9B6B-F204784EB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62B5-13E0-47A4-A6D4-E8FFDA43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25B69E-09A4-4B14-915E-5545FBD6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F63056-E54F-42FF-9404-E541EB20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C0BA7A-42A2-4717-A6C8-26A56CAE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9600BE-D736-4158-BCA8-03E2A038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C8EB8A-B4DC-4E47-8DC0-88831E7F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D43246-5491-4258-9F9E-268E57F4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B4E8D1-B7AF-44AE-B5B3-7D9E24C6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A21CCE-1DBC-41EC-9955-FF039379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A38EE4-4301-4B12-979F-E97664744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3FE9E-52FB-461D-BA86-40F0737E5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E4DC-9843-4665-8546-99FC06FB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FA6EA-322B-4267-A24A-5CF31438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9E95-EA2C-4F4E-9DC1-119EFBDD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5D6A7-77C8-4C1A-994F-E81F932D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414F0-D917-433A-8428-BAFD487B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59DE3-D655-447A-9C2A-3D3D593C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EC9CF-53B9-4526-8E48-4A025BB5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33CA3-09D2-4510-9CB4-E3102C71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A32E2-2B7C-4475-8965-899C5E23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AB4EB-0891-414D-BA9D-424DE610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66D2B-4769-4C34-9FC8-4C16B7AD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8D05-6AC8-4BDC-BD45-447F891CC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F4642-72FA-4DFF-A061-EA5817B7A9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5564EA-502E-47C4-BAAD-3D4AA7E133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22E2E-AA07-4F09-BDB0-21B46734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6DD281-B372-4DC7-A123-C54FA65E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50892-C5F9-433A-A381-FB818147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DB4CDE-A0F5-4980-ADB2-D7629827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50C42-5882-49BE-BA3B-2EB2AD4D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86E8ED-04B1-4EF7-A716-B5B2DA83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158521-F4E8-416D-8E29-6C639859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7F8BD0-B193-4A5A-8C6E-2B2A588F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44454-8023-4556-BCAE-1D68C160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16583-3E21-470E-AE44-01FE880B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8CD816-2A1A-40C8-B57C-BB4775B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BE314-4011-4DF1-B94A-64830213B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997A7-171C-4625-9E14-2700313F42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9516A-4973-4754-BF91-AAEC4821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C98EA-6C0B-4E87-9683-0C835567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BED76-ACD0-4EE6-996E-ECF4E129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3A78F-D732-4692-86A6-D52AC7DA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DB7CD-1476-4A6A-B56A-912433FA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B72A5-A21B-464C-9D0E-E428EC11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E1F3D-B312-4EB8-99B9-9F20DE25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7C1CB-3ADE-4E43-A54E-64CCB934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3A278-56FF-4891-80ED-824E71C8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AE520-EB17-417F-AB04-99C10BB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F3990-E683-4860-801C-FCE93821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92D63-45CB-4CBC-B3C3-CF662ED8F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93A46-5F20-41BD-B52F-B7186E8CC7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1F2D4-7780-4F6E-A795-BC144CFC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49279-66D6-4182-8221-EE4A072A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0EC33-9159-43CD-AE68-D216AF04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C69E0-ADD8-4D49-B1BD-FCC29AE5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FE66D-85B7-4237-BE34-5BD0753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32FB2-E54D-44EC-820D-42EAC251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17D7E-6585-4C7B-AD0B-4ACEB319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E1478-B503-4024-AC85-BCCFAE2A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97AB5-92D4-4942-89C4-501E35CD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200F9-DB01-47DD-8EDA-8F3F84DF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950E4-9E22-4A7F-9AFC-A5F29C0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B120C-9AA1-4D3F-82CC-522D99C094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1235F-9DB5-4D72-8236-DBF549FA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AA008-EC77-422B-8A7A-89BCFEBF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5243B-740B-4B6E-B3D4-D5B654D0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3E073-662C-456B-9C23-CFDDE2F7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C23D1-ED13-45BC-8349-FBEDCA7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86BFD-5911-4D45-BAF6-DF58AA68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CFF19-5638-4C1B-82A9-780C5E7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5A9D7-AD73-4FED-B576-B1C61A8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FAD56-957C-4247-88DB-E1840877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650F8-912E-407F-8311-0C75632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E788B-073D-4705-B42B-67EDEF5E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B443E-2D0E-465A-AD17-D3049ED7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BE0A3-797A-4CE7-A831-A2FCBB1D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370F7-3995-492D-8F12-C608147A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CF0D6-5C7D-440C-9B7F-07C13CBD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DD38C-495E-46CC-927F-4AB596E0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4596A-9D7C-44C7-9B91-E7512355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F2251-A5FE-4EE8-A497-6E543BF7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E1E24-4D60-41CF-B4C7-2EEED45B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FEDBC-D910-4517-9A42-B64D1FAB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58B4B-D152-42E1-8570-A9CE479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B25B9-AED6-40A4-8DDF-9FA6586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89FFF-EC2D-458C-A345-B43B057F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38B9B-DD7F-4492-BDB5-10B7762B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D9F3B-AF50-470C-9EC2-552F2091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DD556-51E1-4FA0-9AB0-E582589D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DB09D-7EFE-479A-8AEB-3BDA2A3F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14545-496D-404B-9833-D1E0DC8A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9E847-8D2C-4059-9208-C150A6F3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5702F-544F-4493-AB42-0A5D85F6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9C116-675F-4970-9866-346EDAB6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99F2B-BD13-42D0-9733-D620DF4D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9AB6E-AD17-41D4-992E-8B6EE997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27F91-3279-49BF-9A4A-BB934BE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E914B-3755-457A-B27F-47C7CB9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C9E22-7E75-48A5-B0AA-F97FFEFD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E1E65-706E-47A4-AFE5-D0EFE12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E3F5C-517D-45F9-B438-E600601A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C28AC-12F8-47CF-B230-B059F6E9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40712-7947-4ACD-A801-C784C6BD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0B40A-EE54-486C-A603-E597F0C8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3815A-71E2-4206-8680-B6050549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24BD2-8E4E-4E64-A810-898D3FB5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D147B-502E-4FF9-BCBF-A4B928AA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CF75A-E566-4B92-811F-FF286EDF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260B0-0C9E-43A9-9A5F-CBACA014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09367-9634-4E61-9121-4D9B05F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DB88-B2E2-4A7C-AFF8-66131409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B7BF6-8E60-414E-8C6A-B7AD291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F6A5A-9042-463D-BE29-2CE79BF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B7F53-002A-4EB3-BC5C-4A2576A1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36857-25DC-4573-8880-1E1537B1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E0646-ABD9-4769-993B-3CC5C0A8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F5992-5557-4EEF-9796-F6395701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6D7B8-5DEC-4F85-80BD-ACAC9E5A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835EB-39A1-421A-9674-DF3C6DCD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D6B0F-1953-47BA-AD1A-2811AFAC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CB04C-AE07-4DED-B905-86079CA9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C3FC3-FC32-49A4-8772-57EE6047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B325B-CBB9-495A-BADC-C3D6AC8F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19F36-CCB7-40B8-A73B-A4BBC23E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F6D4C-A3C6-4D43-80AC-C2D388D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412B4-9688-44B5-BB44-5C501AAA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9B139-FDC2-4032-89DF-4367B2A4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AB8EA-E413-4B33-84AD-33B92453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554B2-67E4-4346-812E-05E372FE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FC348-F696-4D55-B75D-F1A94339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F3BB7-1184-486C-B63C-7339E77C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D8E55-7372-46F1-A608-FCCF645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7897C-9480-4630-9FB5-200202A5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F2816-BA8B-4C74-8E3C-E13243A7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2A2D6-AF95-498D-9EF1-ACEFB464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3C58B-F20E-47D6-B97A-DCE3102F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3092F-B955-442C-A4FC-D9D8030B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B5B9C-D14E-43D2-9740-138F053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7C77E-A204-46CA-8986-5977C75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CA7CC-A4F5-4437-8450-B9CC953B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A54A2-0BB8-43E4-9EDD-D5BDC53A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DDA6A-A1F2-48F0-AED6-4DD07C6B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98946-344A-4607-A22B-727311C2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AF5AC-C814-410D-A6D7-7AAC42C1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45615-A6D6-4F52-9403-C28F876A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175C1-30FC-42F3-A97F-F5E131F3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E7AD0-8893-425E-92BA-9823C38F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9090F-113A-44CF-B97D-CCE5BB5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07F8E-A3CB-4769-886B-94C18F26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C3A68-2310-4CD7-91DF-29A24BB4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F46DE-F716-4330-809B-3A65897B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725E7-7EA9-4F39-8EE9-FB5279A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DF8BD-8EC4-423D-A2B3-63538CFE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EBCDE-11F0-47EE-BEE3-AA932C8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84FAE-4C7D-45A5-A4B8-C89A5354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73B3A-AF10-47AF-A28B-77600BDE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DC49C-F50E-4740-A186-B4839AE5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C177C-49D6-43AC-9258-4D376D3E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45F5B-E8FB-45B4-B6E2-557C76E3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10809-EEC8-4431-84A2-25237560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5773D-4847-4C88-96C4-EDA542B4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5D9CC-93E8-45E3-ABFD-0CFB7A86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C8776-437E-4CBB-84A2-044B6705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9B94E-F585-4246-B131-B842F130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1E027-FCB7-4E4F-9D5E-1D2F349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F9CE6-59CE-4992-A717-81F4C51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5EDB5C-6D32-4352-87D9-5FDEA2C0CE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57133-DCA9-44DE-8CBD-EC5C24D1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E758B-CF82-47E6-919E-A7D1B50E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C6F12-58E0-4A3B-BCEC-7C68AB94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B138D-032C-46C9-A4CD-D6FECB8C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D62C5-92D2-42CC-9376-F80AADE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A73596-528F-47EC-B155-9089797F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0C848-E7C5-4048-9861-072C50C8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C95A0-1497-4887-B744-A0821AB3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3B8B1-603D-4D60-BC64-A02A96AC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BD482-F5F1-480A-8E1C-D04348C7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D0EDE-4C33-49FA-BCB9-095401AB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E14E5-CD88-4D7D-B97F-763CF5A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846CA-0245-4FAC-9872-55731DD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F7EDA-8E05-47F5-AC68-8CF13218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95FD9-F3B7-486B-A2E7-BA31C476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D668C-7CD9-4082-A676-78C06D38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01B37-3F35-409C-A5B9-B33B421C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FF9A9-20BC-406E-BE93-0FB88AD5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E2118-5270-46A1-BD41-28242BF6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31243-1F91-4B49-87D0-800D5A33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678BD-3035-4CC1-8B3E-309A8A03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1A12D-7697-42E2-A6FD-5951282C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D40F10-8A18-4AD9-BA02-BEF56984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56CDC-40B9-46C7-8B4C-12087012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C2530D-63A4-4766-A9FA-8198BBE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4021F-B124-4D91-92C0-E207C05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4D299-87F0-4AD0-B14F-3F8C5B98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68640-8F8E-4E29-BA3A-D674B6B8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F0DEF-D477-4859-A597-FFCA3FB8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97E17-6423-4352-B02B-DB62E772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0D097-2D75-4842-808A-80861FC5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BB326-121D-4EB2-8B58-453EDBCF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5882E-61DF-41C5-A1E6-87A6663B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41E57F-4B5B-4175-B800-8C290EBC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A4F7F8-0821-4D94-89C3-92C519F0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7DD75C-B86A-48F0-9A4E-9B95C6FD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C7ED48-9CD4-42A6-B6A5-49F8EC6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EAAC3-CA70-4F80-A3B1-FFF37463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6B89E-F610-4B67-B8EB-A6986F3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B3328-BDE8-4E46-A5A6-479BC2DA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BF09B-CC12-43BF-95B5-607B884E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160E9-7F69-45D7-BB75-358C2D54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14AE6-3A8A-467D-BA68-FD30D48E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65F8-6FF8-4ADC-8A22-44A03127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0DBCB-5AEE-4F56-8FE1-CFFEA1F6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AFFAAB-2775-4CA9-972D-8CDA1B37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39425-0B59-419F-921A-7F501212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CA73D-9D05-42A5-AC8A-66914357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01E7D-AA29-4EFD-9034-CA5F5A41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10D2B-4E9B-44ED-8BD5-F1BD57AD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27CAD-75C1-4C1B-B2C3-1DC212C3CD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F72B-74A1-496B-B8A4-C6BA82E396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3ADC-F7A9-44EE-ADEC-9E265647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7D3E-A902-4552-96D5-5E5C5B0D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D25E-97D5-4A4C-8BD4-A29CA1A6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0E51-39F3-44F5-A022-D0A125C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77751-7A55-4AE6-873E-2CA10EC7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EAB3-F7DD-4E76-9E2F-30411E7D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357C-71F4-46DF-B73F-0BD5843C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B8885-74C1-42C9-996F-DF2D53A7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4067-6E1D-415B-9D62-B2F6C098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B50E-A597-4A91-A507-3C49AB47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644A-2438-4ADC-91E7-8D837E95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3B58-AE88-4EF9-9771-1EA90893B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285EE-2138-4389-83CB-B6DB004A0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6F26-C444-476D-AD6C-0ECFC2E3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55907-E451-4234-8394-D3308944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6B4B8-B211-4403-BAD2-822B5F09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D3860-09E2-4154-80B5-BF0598FA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EA10C-7744-4110-97FA-CC4B0DE6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45B11-411B-49E1-9C2B-287C5918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E9912-29EA-4507-8FF5-DD6FED8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DD1FB-1550-45FA-AC49-D01B8558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136B6-2C09-4A39-AB73-38281E98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D378C-7D1A-4BD6-8C4E-76418E7C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D4163-CAFF-42E7-B0DA-4389771A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CE7E-FE06-4E72-98C5-9DFBFF54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B7D7F-6F76-4355-BE85-A748AAE14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4DBC25-4BB4-4C98-A02E-B3D186BD3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E78638-9436-4182-B8A9-F62BB24C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0EB832-B944-4297-8EC3-3EEA3DBE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05D9F-A33E-42C0-B8ED-CA184675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294F5C-4C84-46F7-B772-6BBD56C6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0F948-1CA5-4474-AAF1-B82424A8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4CC34-EB41-4172-871F-1E12251D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A0AB6-CF67-43B0-8F32-98D9C723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A4BA84-D348-49AF-971B-9871C3E7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EBE3-3E05-4DA4-9D53-35071505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98626E-EEDF-4D9E-9696-669EC4C2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F8382-E34B-445B-9083-754D1ADE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F5E6A0-79CF-4D16-B22B-8874F43D9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4CE13-ABAC-4F85-B9F2-376D495D5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B62E-DA6A-4F5C-9A03-CE72EBA8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A03DF-3266-4123-8775-5A486C2B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42732-D4B0-46CD-ACB2-9085DDD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FB01-545D-4B09-8143-400B2314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A1A2-3673-4812-AE56-0440EC11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005F3-5DC1-4F62-A2CA-4B287913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6AC8-8DA3-4709-A13A-A4E0B732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3FF2D-5D96-4564-8C85-751005AA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448EE-4FA8-4C81-9454-C39B406D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B446-C58C-4853-9283-9C3BE698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D852-FED0-41FA-8F79-9EE983ED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9FE4-588E-4591-9ED7-7FF4F1F526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0F9A4-4207-41C8-A086-0B081934D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D6E37-1CBD-4942-B804-8193759F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2D57C-8542-4112-AECF-19679EE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8DC4B-96D3-4C6D-9908-D7AA7059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C13D5-F7B1-436C-8AD1-253AD7D0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6CB1-7689-4CB1-95F8-B9F9E88D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7C667-EC0A-4A6B-AE67-A890DF79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9F08D-3AA8-467D-8587-E60B8F25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9DFAC-A73F-452F-8B30-45812B57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0E238-4512-4EF9-AE00-F94B55F6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F2029-EFA4-4802-825F-5EDA1990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468FE-00BB-408C-B16F-7122729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53459-74F2-4D76-A2B3-F1FC63BA91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3AA5B-839A-4FB9-B501-40EC5AF26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7A6C01-EA60-4096-A696-41FA5D52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FB4668-B1F2-4BB1-9809-BCC8EEE2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A4C5-276B-422B-A4D6-CC7365E491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9E8-9A07-4C47-AA58-37FD134D60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9919-AE16-44C0-B114-C6659FD737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D607-A1E5-48C6-8E59-564078BF87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822B-B9A6-4148-B582-9F722E05DD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013F-6C78-4678-97ED-827A8C0FAA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3FCE-38C9-4880-BD5E-5245DD9E7F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EE4E-F25A-4B8E-808C-8C3C2CE863F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691B-A5E5-497F-BF56-7C7A42B62A4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FEAC-B69D-45D9-AEDC-B9FDC61E13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2831-BA11-452F-A10C-F7701F33E0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C4BC-D956-458C-93B2-264701F41B5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4667-48C8-4BD0-91AC-EBE4C1AC29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FBB6-DA44-460E-B1C0-2D86CF2429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9AFF-8EEE-4340-B3E0-92FE66DEEC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039-C917-4650-B330-62EB65DFADB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0C01-07E9-4B04-AE59-69CA372E278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0679-9947-4BBD-B5BF-A80835F8AD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254A-A79C-4F11-A8A5-3A0BE8CD51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303F-659F-4FBF-8560-AA6BCF14F7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3571-BF54-45B0-8C95-A10053911D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CDD-1C83-4BBF-9675-BC53B54471B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7FB8-6C2A-4357-A064-1A3EC07A83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CAAA-C33F-4D0B-857D-6CFDB32940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1"/>
          <p:cNvSpPr/>
          <p:nvPr/>
        </p:nvSpPr>
        <p:spPr>
          <a:xfrm>
            <a:off x="762120" y="1014480"/>
            <a:ext cx="22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夺红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1477" descr="猴2"/>
          <p:cNvPicPr/>
          <p:nvPr/>
        </p:nvPicPr>
        <p:blipFill>
          <a:blip r:embed="rId1"/>
          <a:stretch/>
        </p:blipFill>
        <p:spPr>
          <a:xfrm>
            <a:off x="744480" y="1847880"/>
            <a:ext cx="555840" cy="666720"/>
          </a:xfrm>
          <a:prstGeom prst="rect">
            <a:avLst/>
          </a:prstGeom>
          <a:ln w="0">
            <a:noFill/>
          </a:ln>
        </p:spPr>
      </p:pic>
      <p:grpSp>
        <p:nvGrpSpPr>
          <p:cNvPr id="1000" name="组合 9"/>
          <p:cNvGrpSpPr/>
          <p:nvPr/>
        </p:nvGrpSpPr>
        <p:grpSpPr>
          <a:xfrm>
            <a:off x="1987560" y="1986120"/>
            <a:ext cx="1176120" cy="431640"/>
            <a:chOff x="1987560" y="1986120"/>
            <a:chExt cx="1176120" cy="431640"/>
          </a:xfrm>
        </p:grpSpPr>
        <p:cxnSp>
          <p:nvCxnSpPr>
            <p:cNvPr id="1001" name="直接箭头连接符 7"/>
            <p:cNvCxnSpPr/>
            <p:nvPr/>
          </p:nvCxnSpPr>
          <p:spPr>
            <a:xfrm>
              <a:off x="1987560" y="222156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02" name="矩形 8"/>
            <p:cNvSpPr/>
            <p:nvPr/>
          </p:nvSpPr>
          <p:spPr>
            <a:xfrm>
              <a:off x="2732040" y="198612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组合 10"/>
          <p:cNvGrpSpPr/>
          <p:nvPr/>
        </p:nvGrpSpPr>
        <p:grpSpPr>
          <a:xfrm>
            <a:off x="1987560" y="3668760"/>
            <a:ext cx="1176120" cy="431640"/>
            <a:chOff x="1987560" y="3668760"/>
            <a:chExt cx="1176120" cy="431640"/>
          </a:xfrm>
        </p:grpSpPr>
        <p:cxnSp>
          <p:nvCxnSpPr>
            <p:cNvPr id="1004" name="直接箭头连接符 12"/>
            <p:cNvCxnSpPr/>
            <p:nvPr/>
          </p:nvCxnSpPr>
          <p:spPr>
            <a:xfrm>
              <a:off x="1987560" y="390420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05" name="矩形 14"/>
            <p:cNvSpPr/>
            <p:nvPr/>
          </p:nvSpPr>
          <p:spPr>
            <a:xfrm>
              <a:off x="2732040" y="366876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组合 39"/>
          <p:cNvGrpSpPr/>
          <p:nvPr/>
        </p:nvGrpSpPr>
        <p:grpSpPr>
          <a:xfrm>
            <a:off x="3269880" y="1986120"/>
            <a:ext cx="1178280" cy="431640"/>
            <a:chOff x="3269880" y="1986120"/>
            <a:chExt cx="1178280" cy="431640"/>
          </a:xfrm>
        </p:grpSpPr>
        <p:cxnSp>
          <p:nvCxnSpPr>
            <p:cNvPr id="1007" name="直接箭头连接符 40"/>
            <p:cNvCxnSpPr/>
            <p:nvPr/>
          </p:nvCxnSpPr>
          <p:spPr>
            <a:xfrm>
              <a:off x="3269880" y="2221560"/>
              <a:ext cx="67068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08" name="矩形 41"/>
            <p:cNvSpPr/>
            <p:nvPr/>
          </p:nvSpPr>
          <p:spPr>
            <a:xfrm>
              <a:off x="4015800" y="1986120"/>
              <a:ext cx="43236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组合 42"/>
          <p:cNvGrpSpPr/>
          <p:nvPr/>
        </p:nvGrpSpPr>
        <p:grpSpPr>
          <a:xfrm>
            <a:off x="3269880" y="3668760"/>
            <a:ext cx="1178280" cy="431640"/>
            <a:chOff x="3269880" y="3668760"/>
            <a:chExt cx="1178280" cy="431640"/>
          </a:xfrm>
        </p:grpSpPr>
        <p:cxnSp>
          <p:nvCxnSpPr>
            <p:cNvPr id="1010" name="直接箭头连接符 43"/>
            <p:cNvCxnSpPr/>
            <p:nvPr/>
          </p:nvCxnSpPr>
          <p:spPr>
            <a:xfrm>
              <a:off x="3269880" y="3904200"/>
              <a:ext cx="67068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11" name="矩形 44"/>
            <p:cNvSpPr/>
            <p:nvPr/>
          </p:nvSpPr>
          <p:spPr>
            <a:xfrm>
              <a:off x="4015800" y="3668760"/>
              <a:ext cx="43236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组合 65"/>
          <p:cNvGrpSpPr/>
          <p:nvPr/>
        </p:nvGrpSpPr>
        <p:grpSpPr>
          <a:xfrm>
            <a:off x="4562640" y="1978200"/>
            <a:ext cx="1176120" cy="431640"/>
            <a:chOff x="4562640" y="1978200"/>
            <a:chExt cx="1176120" cy="431640"/>
          </a:xfrm>
        </p:grpSpPr>
        <p:cxnSp>
          <p:nvCxnSpPr>
            <p:cNvPr id="1013" name="直接箭头连接符 66"/>
            <p:cNvCxnSpPr/>
            <p:nvPr/>
          </p:nvCxnSpPr>
          <p:spPr>
            <a:xfrm>
              <a:off x="4562640" y="221364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14" name="矩形 67"/>
            <p:cNvSpPr/>
            <p:nvPr/>
          </p:nvSpPr>
          <p:spPr>
            <a:xfrm>
              <a:off x="5307120" y="197820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组合 68"/>
          <p:cNvGrpSpPr/>
          <p:nvPr/>
        </p:nvGrpSpPr>
        <p:grpSpPr>
          <a:xfrm>
            <a:off x="4562640" y="3660840"/>
            <a:ext cx="1176120" cy="431640"/>
            <a:chOff x="4562640" y="3660840"/>
            <a:chExt cx="1176120" cy="431640"/>
          </a:xfrm>
        </p:grpSpPr>
        <p:cxnSp>
          <p:nvCxnSpPr>
            <p:cNvPr id="1016" name="直接箭头连接符 69"/>
            <p:cNvCxnSpPr/>
            <p:nvPr/>
          </p:nvCxnSpPr>
          <p:spPr>
            <a:xfrm>
              <a:off x="4562640" y="389628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17" name="矩形 70"/>
            <p:cNvSpPr/>
            <p:nvPr/>
          </p:nvSpPr>
          <p:spPr>
            <a:xfrm>
              <a:off x="5307120" y="366084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77"/>
          <p:cNvGrpSpPr/>
          <p:nvPr/>
        </p:nvGrpSpPr>
        <p:grpSpPr>
          <a:xfrm>
            <a:off x="5907240" y="1978200"/>
            <a:ext cx="1176120" cy="431640"/>
            <a:chOff x="5907240" y="1978200"/>
            <a:chExt cx="1176120" cy="431640"/>
          </a:xfrm>
        </p:grpSpPr>
        <p:cxnSp>
          <p:nvCxnSpPr>
            <p:cNvPr id="1019" name="直接箭头连接符 78"/>
            <p:cNvCxnSpPr/>
            <p:nvPr/>
          </p:nvCxnSpPr>
          <p:spPr>
            <a:xfrm>
              <a:off x="5907240" y="221364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20" name="矩形 79"/>
            <p:cNvSpPr/>
            <p:nvPr/>
          </p:nvSpPr>
          <p:spPr>
            <a:xfrm>
              <a:off x="6651720" y="197820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80"/>
          <p:cNvGrpSpPr/>
          <p:nvPr/>
        </p:nvGrpSpPr>
        <p:grpSpPr>
          <a:xfrm>
            <a:off x="5906880" y="3660840"/>
            <a:ext cx="1168560" cy="431640"/>
            <a:chOff x="5906880" y="3660840"/>
            <a:chExt cx="1168560" cy="431640"/>
          </a:xfrm>
        </p:grpSpPr>
        <p:cxnSp>
          <p:nvCxnSpPr>
            <p:cNvPr id="1022" name="直接箭头连接符 81"/>
            <p:cNvCxnSpPr/>
            <p:nvPr/>
          </p:nvCxnSpPr>
          <p:spPr>
            <a:xfrm>
              <a:off x="5906880" y="3896280"/>
              <a:ext cx="66492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23" name="矩形 82"/>
            <p:cNvSpPr/>
            <p:nvPr/>
          </p:nvSpPr>
          <p:spPr>
            <a:xfrm>
              <a:off x="6646680" y="3660840"/>
              <a:ext cx="42876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1478"/>
          <p:cNvGrpSpPr/>
          <p:nvPr/>
        </p:nvGrpSpPr>
        <p:grpSpPr>
          <a:xfrm>
            <a:off x="6858000" y="1322280"/>
            <a:ext cx="431640" cy="665280"/>
            <a:chOff x="6858000" y="1322280"/>
            <a:chExt cx="431640" cy="665280"/>
          </a:xfrm>
        </p:grpSpPr>
        <p:sp>
          <p:nvSpPr>
            <p:cNvPr id="1025" name="AutoShape 1479"/>
            <p:cNvSpPr/>
            <p:nvPr/>
          </p:nvSpPr>
          <p:spPr>
            <a:xfrm>
              <a:off x="6858000" y="1364760"/>
              <a:ext cx="431640" cy="4435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115200 h 443520"/>
                <a:gd name="textAreaBottom" fmla="*/ 328320 h 44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480"/>
            <p:cNvSpPr/>
            <p:nvPr/>
          </p:nvSpPr>
          <p:spPr>
            <a:xfrm>
              <a:off x="6858000" y="1322280"/>
              <a:ext cx="0" cy="665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1478"/>
          <p:cNvGrpSpPr/>
          <p:nvPr/>
        </p:nvGrpSpPr>
        <p:grpSpPr>
          <a:xfrm>
            <a:off x="6842160" y="2989440"/>
            <a:ext cx="431640" cy="664920"/>
            <a:chOff x="6842160" y="2989440"/>
            <a:chExt cx="431640" cy="664920"/>
          </a:xfrm>
        </p:grpSpPr>
        <p:sp>
          <p:nvSpPr>
            <p:cNvPr id="1028" name="AutoShape 1479"/>
            <p:cNvSpPr/>
            <p:nvPr/>
          </p:nvSpPr>
          <p:spPr>
            <a:xfrm>
              <a:off x="6842160" y="3031920"/>
              <a:ext cx="431640" cy="443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115200 h 443160"/>
                <a:gd name="textAreaBottom" fmla="*/ 327960 h 4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1480"/>
            <p:cNvSpPr/>
            <p:nvPr/>
          </p:nvSpPr>
          <p:spPr>
            <a:xfrm>
              <a:off x="6842160" y="2989440"/>
              <a:ext cx="0" cy="664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3"/>
          <p:cNvGrpSpPr/>
          <p:nvPr/>
        </p:nvGrpSpPr>
        <p:grpSpPr>
          <a:xfrm>
            <a:off x="1351080" y="1724040"/>
            <a:ext cx="5332320" cy="784800"/>
            <a:chOff x="1351080" y="1724040"/>
            <a:chExt cx="5332320" cy="784800"/>
          </a:xfrm>
        </p:grpSpPr>
        <p:sp>
          <p:nvSpPr>
            <p:cNvPr id="1031" name="文本框 98"/>
            <p:cNvSpPr/>
            <p:nvPr/>
          </p:nvSpPr>
          <p:spPr>
            <a:xfrm>
              <a:off x="1351080" y="1927440"/>
              <a:ext cx="84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99"/>
            <p:cNvSpPr/>
            <p:nvPr/>
          </p:nvSpPr>
          <p:spPr>
            <a:xfrm>
              <a:off x="1869480" y="1724040"/>
              <a:ext cx="12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文本框 100"/>
            <p:cNvSpPr/>
            <p:nvPr/>
          </p:nvSpPr>
          <p:spPr>
            <a:xfrm>
              <a:off x="3282480" y="1765080"/>
              <a:ext cx="75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文本框 101"/>
            <p:cNvSpPr/>
            <p:nvPr/>
          </p:nvSpPr>
          <p:spPr>
            <a:xfrm>
              <a:off x="4460760" y="1765080"/>
              <a:ext cx="87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文本框 102"/>
            <p:cNvSpPr/>
            <p:nvPr/>
          </p:nvSpPr>
          <p:spPr>
            <a:xfrm>
              <a:off x="5865120" y="1765080"/>
              <a:ext cx="81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104"/>
          <p:cNvGrpSpPr/>
          <p:nvPr/>
        </p:nvGrpSpPr>
        <p:grpSpPr>
          <a:xfrm>
            <a:off x="1351080" y="3430440"/>
            <a:ext cx="5371560" cy="775080"/>
            <a:chOff x="1351080" y="3430440"/>
            <a:chExt cx="5371560" cy="775080"/>
          </a:xfrm>
        </p:grpSpPr>
        <p:sp>
          <p:nvSpPr>
            <p:cNvPr id="1037" name="文本框 105"/>
            <p:cNvSpPr/>
            <p:nvPr/>
          </p:nvSpPr>
          <p:spPr>
            <a:xfrm>
              <a:off x="1351080" y="362412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文本框 106"/>
            <p:cNvSpPr/>
            <p:nvPr/>
          </p:nvSpPr>
          <p:spPr>
            <a:xfrm>
              <a:off x="1871640" y="3430440"/>
              <a:ext cx="12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107"/>
            <p:cNvSpPr/>
            <p:nvPr/>
          </p:nvSpPr>
          <p:spPr>
            <a:xfrm>
              <a:off x="3251880" y="3461400"/>
              <a:ext cx="75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4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文本框 108"/>
            <p:cNvSpPr/>
            <p:nvPr/>
          </p:nvSpPr>
          <p:spPr>
            <a:xfrm>
              <a:off x="4468320" y="3461400"/>
              <a:ext cx="89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文本框 109"/>
            <p:cNvSpPr/>
            <p:nvPr/>
          </p:nvSpPr>
          <p:spPr>
            <a:xfrm>
              <a:off x="5797800" y="3461400"/>
              <a:ext cx="92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2" name="Picture 12" descr="小马"/>
          <p:cNvPicPr/>
          <p:nvPr/>
        </p:nvPicPr>
        <p:blipFill>
          <a:blip r:embed="rId2"/>
          <a:stretch/>
        </p:blipFill>
        <p:spPr>
          <a:xfrm>
            <a:off x="866880" y="3433680"/>
            <a:ext cx="523800" cy="681120"/>
          </a:xfrm>
          <a:prstGeom prst="rect">
            <a:avLst/>
          </a:prstGeom>
          <a:ln w="0">
            <a:noFill/>
          </a:ln>
        </p:spPr>
      </p:pic>
      <p:sp>
        <p:nvSpPr>
          <p:cNvPr id="1043" name="文本框 2"/>
          <p:cNvSpPr/>
          <p:nvPr/>
        </p:nvSpPr>
        <p:spPr>
          <a:xfrm>
            <a:off x="2658960" y="196200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3"/>
          <p:cNvSpPr/>
          <p:nvPr/>
        </p:nvSpPr>
        <p:spPr>
          <a:xfrm>
            <a:off x="3941640" y="194472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4"/>
          <p:cNvSpPr/>
          <p:nvPr/>
        </p:nvSpPr>
        <p:spPr>
          <a:xfrm>
            <a:off x="5254560" y="194004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5"/>
          <p:cNvSpPr/>
          <p:nvPr/>
        </p:nvSpPr>
        <p:spPr>
          <a:xfrm>
            <a:off x="6572160" y="193212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6"/>
          <p:cNvSpPr/>
          <p:nvPr/>
        </p:nvSpPr>
        <p:spPr>
          <a:xfrm>
            <a:off x="2641680" y="362916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9"/>
          <p:cNvSpPr/>
          <p:nvPr/>
        </p:nvSpPr>
        <p:spPr>
          <a:xfrm>
            <a:off x="3951360" y="362916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10"/>
          <p:cNvSpPr/>
          <p:nvPr/>
        </p:nvSpPr>
        <p:spPr>
          <a:xfrm>
            <a:off x="5248440" y="361944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15"/>
          <p:cNvSpPr/>
          <p:nvPr/>
        </p:nvSpPr>
        <p:spPr>
          <a:xfrm>
            <a:off x="6578640" y="360360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文本框 2"/>
          <p:cNvSpPr/>
          <p:nvPr/>
        </p:nvSpPr>
        <p:spPr>
          <a:xfrm>
            <a:off x="523800" y="79056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3"/>
          <p:cNvSpPr/>
          <p:nvPr/>
        </p:nvSpPr>
        <p:spPr>
          <a:xfrm>
            <a:off x="561960" y="1328760"/>
            <a:ext cx="81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+16+37=         74-30-28=             25+65-7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组合 7"/>
          <p:cNvGrpSpPr/>
          <p:nvPr/>
        </p:nvGrpSpPr>
        <p:grpSpPr>
          <a:xfrm>
            <a:off x="849240" y="1854360"/>
            <a:ext cx="1471680" cy="2226960"/>
            <a:chOff x="849240" y="1854360"/>
            <a:chExt cx="1471680" cy="2226960"/>
          </a:xfrm>
        </p:grpSpPr>
        <p:sp>
          <p:nvSpPr>
            <p:cNvPr id="1054" name="文本框 4"/>
            <p:cNvSpPr/>
            <p:nvPr/>
          </p:nvSpPr>
          <p:spPr>
            <a:xfrm>
              <a:off x="84924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 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1 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3  7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 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直接连接符 5"/>
            <p:cNvSpPr/>
            <p:nvPr/>
          </p:nvSpPr>
          <p:spPr>
            <a:xfrm>
              <a:off x="912600" y="279288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直接连接符 6"/>
            <p:cNvSpPr/>
            <p:nvPr/>
          </p:nvSpPr>
          <p:spPr>
            <a:xfrm>
              <a:off x="900360" y="35474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8"/>
          <p:cNvGrpSpPr/>
          <p:nvPr/>
        </p:nvGrpSpPr>
        <p:grpSpPr>
          <a:xfrm>
            <a:off x="3595680" y="1854360"/>
            <a:ext cx="1471680" cy="2226960"/>
            <a:chOff x="3595680" y="1854360"/>
            <a:chExt cx="1471680" cy="2226960"/>
          </a:xfrm>
        </p:grpSpPr>
        <p:sp>
          <p:nvSpPr>
            <p:cNvPr id="1058" name="文本框 9"/>
            <p:cNvSpPr/>
            <p:nvPr/>
          </p:nvSpPr>
          <p:spPr>
            <a:xfrm>
              <a:off x="359568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  4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3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2  8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直接连接符 10"/>
            <p:cNvSpPr/>
            <p:nvPr/>
          </p:nvSpPr>
          <p:spPr>
            <a:xfrm>
              <a:off x="3659040" y="279288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直接连接符 12"/>
            <p:cNvSpPr/>
            <p:nvPr/>
          </p:nvSpPr>
          <p:spPr>
            <a:xfrm>
              <a:off x="3646800" y="35474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组合 14"/>
          <p:cNvGrpSpPr/>
          <p:nvPr/>
        </p:nvGrpSpPr>
        <p:grpSpPr>
          <a:xfrm>
            <a:off x="6342120" y="1854360"/>
            <a:ext cx="1471680" cy="2226960"/>
            <a:chOff x="6342120" y="1854360"/>
            <a:chExt cx="1471680" cy="2226960"/>
          </a:xfrm>
        </p:grpSpPr>
        <p:sp>
          <p:nvSpPr>
            <p:cNvPr id="1062" name="文本框 15"/>
            <p:cNvSpPr/>
            <p:nvPr/>
          </p:nvSpPr>
          <p:spPr>
            <a:xfrm>
              <a:off x="634212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 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6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7  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直接连接符 16"/>
            <p:cNvSpPr/>
            <p:nvPr/>
          </p:nvSpPr>
          <p:spPr>
            <a:xfrm>
              <a:off x="6405480" y="279288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直接连接符 17"/>
            <p:cNvSpPr/>
            <p:nvPr/>
          </p:nvSpPr>
          <p:spPr>
            <a:xfrm>
              <a:off x="6393240" y="35474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文本框 18"/>
          <p:cNvSpPr/>
          <p:nvPr/>
        </p:nvSpPr>
        <p:spPr>
          <a:xfrm>
            <a:off x="2436840" y="13208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19"/>
          <p:cNvSpPr/>
          <p:nvPr/>
        </p:nvSpPr>
        <p:spPr>
          <a:xfrm>
            <a:off x="4943520" y="13334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20"/>
          <p:cNvSpPr/>
          <p:nvPr/>
        </p:nvSpPr>
        <p:spPr>
          <a:xfrm>
            <a:off x="7943760" y="13334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文本框 2"/>
          <p:cNvSpPr/>
          <p:nvPr/>
        </p:nvSpPr>
        <p:spPr>
          <a:xfrm>
            <a:off x="438120" y="781200"/>
            <a:ext cx="68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     里面填上合适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3"/>
          <p:cNvSpPr/>
          <p:nvPr/>
        </p:nvSpPr>
        <p:spPr>
          <a:xfrm>
            <a:off x="898560" y="803160"/>
            <a:ext cx="431640" cy="43020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14"/>
          <p:cNvGrpSpPr/>
          <p:nvPr/>
        </p:nvGrpSpPr>
        <p:grpSpPr>
          <a:xfrm>
            <a:off x="380880" y="1852560"/>
            <a:ext cx="8355240" cy="1373760"/>
            <a:chOff x="380880" y="1852560"/>
            <a:chExt cx="8355240" cy="1373760"/>
          </a:xfrm>
        </p:grpSpPr>
        <p:sp>
          <p:nvSpPr>
            <p:cNvPr id="1071" name="文本框 5"/>
            <p:cNvSpPr/>
            <p:nvPr/>
          </p:nvSpPr>
          <p:spPr>
            <a:xfrm>
              <a:off x="380880" y="1852560"/>
              <a:ext cx="8355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+     +27=62       37+     +33=97      90-62-      =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0 -     -  7=53        65 -     +16=54           +27-58=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矩形 6"/>
            <p:cNvSpPr/>
            <p:nvPr/>
          </p:nvSpPr>
          <p:spPr>
            <a:xfrm>
              <a:off x="1111680" y="190260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7"/>
            <p:cNvSpPr/>
            <p:nvPr/>
          </p:nvSpPr>
          <p:spPr>
            <a:xfrm>
              <a:off x="4090320" y="189360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矩形 8"/>
            <p:cNvSpPr/>
            <p:nvPr/>
          </p:nvSpPr>
          <p:spPr>
            <a:xfrm>
              <a:off x="7446600" y="191844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矩形 9"/>
            <p:cNvSpPr/>
            <p:nvPr/>
          </p:nvSpPr>
          <p:spPr>
            <a:xfrm>
              <a:off x="6402600" y="2752200"/>
              <a:ext cx="43020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矩形 10"/>
            <p:cNvSpPr/>
            <p:nvPr/>
          </p:nvSpPr>
          <p:spPr>
            <a:xfrm>
              <a:off x="4131000" y="274644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矩形 12"/>
            <p:cNvSpPr/>
            <p:nvPr/>
          </p:nvSpPr>
          <p:spPr>
            <a:xfrm>
              <a:off x="1100880" y="273780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文本框 15"/>
          <p:cNvSpPr/>
          <p:nvPr/>
        </p:nvSpPr>
        <p:spPr>
          <a:xfrm>
            <a:off x="1041480" y="186696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16"/>
          <p:cNvSpPr/>
          <p:nvPr/>
        </p:nvSpPr>
        <p:spPr>
          <a:xfrm>
            <a:off x="4032360" y="184932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17"/>
          <p:cNvSpPr/>
          <p:nvPr/>
        </p:nvSpPr>
        <p:spPr>
          <a:xfrm>
            <a:off x="7473960" y="187488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18"/>
          <p:cNvSpPr/>
          <p:nvPr/>
        </p:nvSpPr>
        <p:spPr>
          <a:xfrm>
            <a:off x="1033560" y="271944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19"/>
          <p:cNvSpPr/>
          <p:nvPr/>
        </p:nvSpPr>
        <p:spPr>
          <a:xfrm>
            <a:off x="4068720" y="270180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20"/>
          <p:cNvSpPr/>
          <p:nvPr/>
        </p:nvSpPr>
        <p:spPr>
          <a:xfrm>
            <a:off x="6334200" y="270180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文本框 2"/>
          <p:cNvSpPr/>
          <p:nvPr/>
        </p:nvSpPr>
        <p:spPr>
          <a:xfrm>
            <a:off x="446040" y="8906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了迎接国庆节，学校买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盆月季花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盆丁香花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盆百合花，学校一共买来多少盆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3"/>
          <p:cNvSpPr/>
          <p:nvPr/>
        </p:nvSpPr>
        <p:spPr>
          <a:xfrm>
            <a:off x="1093680" y="1909800"/>
            <a:ext cx="73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+32+28=7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学校一共买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盆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4"/>
          <p:cNvSpPr/>
          <p:nvPr/>
        </p:nvSpPr>
        <p:spPr>
          <a:xfrm>
            <a:off x="520560" y="3309840"/>
            <a:ext cx="81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丽在计算一道减法题时，把减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看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结果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正确的差应该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5"/>
          <p:cNvSpPr/>
          <p:nvPr/>
        </p:nvSpPr>
        <p:spPr>
          <a:xfrm>
            <a:off x="1084320" y="4413240"/>
            <a:ext cx="73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5+21-12=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正确的差应该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8:48Z</dcterms:modified>
  <cp:revision>1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